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F1E-CAD4-4F5C-A619-F1A06865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FD0-DE1B-4E0F-BA09-C16F3ADA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88E-281F-4B4E-9904-1783CB0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9EF-0ED7-4410-9100-04E56BF5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8DA-C3B0-458F-99F2-4C2B34D2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91F-02AF-480B-9C90-2CAC7765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816-470D-47F2-8661-33985BAC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1A5-62E2-4395-964B-DC10981E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BBB-C0FE-49A9-AEA7-F6E7177D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917-EFC6-4B0B-A469-2DD581E8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E1E-85C1-47F3-9627-0C1F610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A8B-E86C-40CD-9325-D65E865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39EB-9F32-4B6C-A6F8-06B596521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Ultra Bold Condensed"/>
              </a:rPr>
              <a:t>Ratios and Unit R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Impact"/>
              </a:rPr>
              <a:t>By: Alec, Sadie, and Jes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763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Boo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- Comparison of two quantities by 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Ou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- Putting two numbers compared by a 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fraction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What are the three ways to write a rat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43000" y="3962520"/>
          <a:ext cx="4876920" cy="255744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a J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have a J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80880" y="1295280"/>
            <a:ext cx="845820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Ultra Bold Condensed"/>
              </a:rPr>
              <a:t>A survey asked students whether they had after-school jobs.  Write each ratio as a fraction in simple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ill Sans Ultra Bold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Ultra Bold Condensed"/>
              </a:rPr>
              <a:t>Students with jobs to students without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ill Sans Ultra Bold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ill Sans Ultra Bold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Ultra Bold Condensed"/>
              </a:rPr>
              <a:t>Students without jobs to all students surve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20931000">
            <a:off x="7086600" y="4648320"/>
            <a:ext cx="127620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592800">
            <a:off x="6629040" y="1980720"/>
            <a:ext cx="2117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Boo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Is a ratio that compares quantities in different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Ou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Fraction that is in differ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Unit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Book Defi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Is a rate that has a denominator of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Ou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Finding how much one unit w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486600">
            <a:off x="6095880" y="44956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35515" r="0" b="40187"/>
          <a:stretch/>
        </p:blipFill>
        <p:spPr>
          <a:xfrm>
            <a:off x="685800" y="5486400"/>
            <a:ext cx="43434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6 fluid ounces of laundry                  detergent costs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$</a:t>
            </a: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0.78. Find the uni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Formula: </a:t>
            </a: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price/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719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Impact"/>
              </a:rPr>
              <a:t>Converting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Ou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 Ultra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Changing one rate to equal anothe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Ultra Bold Condensed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 Condensed"/>
              </a:rPr>
              <a:t>Convert 10mi/hr to feet per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20682600">
            <a:off x="609480" y="2971440"/>
            <a:ext cx="8636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582600">
            <a:off x="7238520" y="480060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Ultra Bold Condensed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Gill Sans Ultra Bold Condensed"/>
              </a:rPr>
              <a:t>Good Luck on the Tes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Wingdings"/>
                <a:ea typeface="Wingdings"/>
              </a:rPr>
              <a:t>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6668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13:49Z</dcterms:created>
  <dc:creator>Student</dc:creator>
  <dc:description/>
  <dc:language>en-US</dc:language>
  <cp:lastModifiedBy>School</cp:lastModifiedBy>
  <dcterms:modified xsi:type="dcterms:W3CDTF">2010-03-08T19:33:12Z</dcterms:modified>
  <cp:revision>6</cp:revision>
  <dc:subject/>
  <dc:title>Ratios and Unit Rates</dc:title>
</cp:coreProperties>
</file>